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F6C5-9B1A-49DB-BFB5-E69BD1BF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2D8-E54D-436B-81A4-F6BB7FD9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BB1-B330-4653-94C4-636DB852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0C8-92DC-4585-B08C-9272AE95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1AA-D565-48C2-BB21-DE349040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58B-6CB2-4205-9200-272313F0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092-4410-4878-8F03-E07ED633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981-A793-4BC6-A1A7-D0115136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1DC-8DB9-4322-9AA6-4EA9FD66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363-F41C-48BA-905B-8CABFDCB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83EC-8534-4113-92D0-78F4D6E6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236-564B-404E-B6E3-2D0ABB42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5F7C-7054-419D-9875-13FA43F67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68360" y="620640"/>
            <a:ext cx="4969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rchitecture Cultu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902240" y="1767240"/>
            <a:ext cx="5269680" cy="5269680"/>
            <a:chOff x="1902240" y="1767240"/>
            <a:chExt cx="5269680" cy="5269680"/>
          </a:xfrm>
        </p:grpSpPr>
        <p:sp>
          <p:nvSpPr>
            <p:cNvPr id="44" name="_s2060"/>
            <p:cNvSpPr/>
            <p:nvPr/>
          </p:nvSpPr>
          <p:spPr>
            <a:xfrm>
              <a:off x="2608200" y="2473560"/>
              <a:ext cx="3857760" cy="38574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61"/>
            <p:cNvSpPr/>
            <p:nvPr/>
          </p:nvSpPr>
          <p:spPr>
            <a:xfrm rot="7200000">
              <a:off x="2608200" y="2473200"/>
              <a:ext cx="3857400" cy="38577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63"/>
            <p:cNvSpPr/>
            <p:nvPr/>
          </p:nvSpPr>
          <p:spPr>
            <a:xfrm rot="14400000">
              <a:off x="2607840" y="2472840"/>
              <a:ext cx="3857400" cy="38577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58"/>
            <p:cNvSpPr/>
            <p:nvPr/>
          </p:nvSpPr>
          <p:spPr>
            <a:xfrm>
              <a:off x="5340240" y="3009960"/>
              <a:ext cx="117648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59"/>
            <p:cNvSpPr/>
            <p:nvPr/>
          </p:nvSpPr>
          <p:spPr>
            <a:xfrm>
              <a:off x="3951360" y="5421240"/>
              <a:ext cx="117612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62"/>
            <p:cNvSpPr/>
            <p:nvPr/>
          </p:nvSpPr>
          <p:spPr>
            <a:xfrm>
              <a:off x="2557440" y="3011400"/>
              <a:ext cx="117648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7:28:37Z</dcterms:created>
  <dc:creator>Invitado</dc:creator>
  <dc:description/>
  <dc:language>en-US</dc:language>
  <cp:lastModifiedBy>Invitado</cp:lastModifiedBy>
  <dcterms:modified xsi:type="dcterms:W3CDTF">2006-09-21T17:38:40Z</dcterms:modified>
  <cp:revision>2</cp:revision>
  <dc:subject/>
  <dc:title>Diapositiva 1</dc:title>
</cp:coreProperties>
</file>